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media/image12.wmf" ContentType="image/x-wmf"/>
  <Override PartName="/ppt/media/image4.png" ContentType="image/png"/>
  <Override PartName="/ppt/media/image30.wmf" ContentType="image/x-wmf"/>
  <Override PartName="/ppt/media/image31.wmf" ContentType="image/x-wmf"/>
  <Override PartName="/ppt/media/image6.wmf" ContentType="image/x-wmf"/>
  <Override PartName="/ppt/media/image3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22E-83B3-4E26-8C2B-B17BDAB0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110-375D-4924-A160-3093F4C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EDC-7B66-4680-8334-56345AF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8D5-2ADE-4C37-8D55-B93991E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EC6-D5F1-451B-B1F5-9B368A51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242-A86D-4ED4-ACB7-081C2A6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B28-7669-487E-A50D-FABB2F1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173-C5A4-43EB-83A5-F2F596B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8E0-7181-4D3E-8AEC-DAA50E0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704-ADBD-4BDE-9723-5C8B3DA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146-488B-458C-BF9B-681BDAC4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2E3-F6E8-462B-854E-B22E091F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2196-5871-40DA-93C3-41956EF9DB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6"/>
          <p:cNvSpPr/>
          <p:nvPr/>
        </p:nvSpPr>
        <p:spPr>
          <a:xfrm>
            <a:off x="1619280" y="1413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alibri"/>
                <a:ea typeface="宋体"/>
              </a:rPr>
              <a:t>第二十三章   数据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1403280" y="5300640"/>
            <a:ext cx="2016360" cy="1009800"/>
            <a:chOff x="1403280" y="5300640"/>
            <a:chExt cx="2016360" cy="1009800"/>
          </a:xfrm>
        </p:grpSpPr>
        <p:sp>
          <p:nvSpPr>
            <p:cNvPr id="77" name="Oval 5"/>
            <p:cNvSpPr/>
            <p:nvPr/>
          </p:nvSpPr>
          <p:spPr>
            <a:xfrm>
              <a:off x="1403280" y="5300640"/>
              <a:ext cx="1943280" cy="1009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403280" y="5502240"/>
              <a:ext cx="20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  <a:ea typeface="宋体"/>
                </a:rPr>
                <a:t>学习新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4932360" y="5229360"/>
            <a:ext cx="2160360" cy="1009440"/>
            <a:chOff x="4932360" y="5229360"/>
            <a:chExt cx="2160360" cy="1009440"/>
          </a:xfrm>
        </p:grpSpPr>
        <p:sp>
          <p:nvSpPr>
            <p:cNvPr id="80" name="Oval 8"/>
            <p:cNvSpPr/>
            <p:nvPr/>
          </p:nvSpPr>
          <p:spPr>
            <a:xfrm>
              <a:off x="4932360" y="5229360"/>
              <a:ext cx="1942920" cy="1009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>
              <a:off x="5076720" y="544644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  <a:ea typeface="宋体"/>
                </a:rPr>
                <a:t>检测反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矩形 10" descr=""/>
          <p:cNvPicPr/>
          <p:nvPr/>
        </p:nvPicPr>
        <p:blipFill>
          <a:blip r:embed="rId3"/>
          <a:stretch/>
        </p:blipFill>
        <p:spPr>
          <a:xfrm>
            <a:off x="2212920" y="2967120"/>
            <a:ext cx="4768920" cy="1141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00080" y="285840"/>
            <a:ext cx="46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九年级数学上    新课标 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[</a:t>
            </a:r>
            <a:r>
              <a:rPr b="1" lang="zh-CN" sz="2400" spc="-1" strike="noStrike">
                <a:solidFill>
                  <a:srgbClr val="cc0000"/>
                </a:solidFill>
                <a:latin typeface="楷体"/>
                <a:ea typeface="楷体"/>
              </a:rPr>
              <a:t>冀教</a:t>
            </a:r>
            <a:r>
              <a:rPr b="1" lang="en-US" sz="2400" spc="-1" strike="noStrike">
                <a:solidFill>
                  <a:srgbClr val="cc0000"/>
                </a:solidFill>
                <a:latin typeface="楷体"/>
                <a:ea typeface="楷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214200" y="71424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计算器计算下列数据的平均数和方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精确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285840" y="22860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入统计状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择一元统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1026000" y="2857680"/>
            <a:ext cx="19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数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026000" y="3429000"/>
            <a:ext cx="19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结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71720" y="4000680"/>
            <a:ext cx="418608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Administrator\Application Data\Tencent\Users\1176771260\QQ\WinTemp\RichOle\_~OLR78Z376IOL()$[[DE_C.png"/>
          <p:cNvPicPr/>
          <p:nvPr/>
        </p:nvPicPr>
        <p:blipFill>
          <a:blip r:embed="rId2"/>
          <a:stretch/>
        </p:blipFill>
        <p:spPr>
          <a:xfrm>
            <a:off x="1143000" y="4929120"/>
            <a:ext cx="470376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Administrator\Application Data\Tencent\Users\1176771260\QQ\WinTemp\RichOle\4Y2$RNL0@M{1R8}~1%``DJ2.png"/>
          <p:cNvPicPr/>
          <p:nvPr/>
        </p:nvPicPr>
        <p:blipFill>
          <a:blip r:embed="rId3"/>
          <a:stretch/>
        </p:blipFill>
        <p:spPr>
          <a:xfrm>
            <a:off x="1143000" y="5643720"/>
            <a:ext cx="342900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214200" y="507204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组数据的每一个数据都变为原来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所得的一组新数据的方差将变为原数据方差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1120680" y="35712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知识拓展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214200" y="1143000"/>
            <a:ext cx="83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是用来衡量一组数据波动大小的重要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285840" y="17859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反映的是数据在它的平均数附近波动的情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285840" y="278604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同类问题的两组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较大的波动较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较小的波动较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14200" y="385776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组数据的每一个数据加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减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一个常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得的一组新数据的方差不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9"/>
          <p:cNvGrpSpPr/>
          <p:nvPr/>
        </p:nvGrpSpPr>
        <p:grpSpPr>
          <a:xfrm>
            <a:off x="6443640" y="189000"/>
            <a:ext cx="2484000" cy="1008000"/>
            <a:chOff x="6443640" y="189000"/>
            <a:chExt cx="2484000" cy="1008000"/>
          </a:xfrm>
        </p:grpSpPr>
        <p:pic>
          <p:nvPicPr>
            <p:cNvPr id="146" name="Picture 10" descr="1"/>
            <p:cNvPicPr/>
            <p:nvPr/>
          </p:nvPicPr>
          <p:blipFill>
            <a:blip r:embed="rId1"/>
            <a:stretch/>
          </p:blipFill>
          <p:spPr>
            <a:xfrm>
              <a:off x="6515640" y="189000"/>
              <a:ext cx="241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2"/>
            <p:cNvSpPr/>
            <p:nvPr/>
          </p:nvSpPr>
          <p:spPr>
            <a:xfrm>
              <a:off x="6443640" y="189000"/>
              <a:ext cx="22107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检测反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4"/>
          <p:cNvSpPr/>
          <p:nvPr/>
        </p:nvSpPr>
        <p:spPr>
          <a:xfrm>
            <a:off x="357120" y="107172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5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中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统计量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表示一组数据波动程度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均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众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频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28760" y="3571920"/>
            <a:ext cx="7715160" cy="581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一组数据波动大小的统计量是方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289480" y="1571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214200" y="21420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两班举行电脑汉字输入比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赛学生每分钟输入汉字的个数统计结果如下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表格 2" descr=""/>
          <p:cNvPicPr/>
          <p:nvPr/>
        </p:nvPicPr>
        <p:blipFill>
          <a:blip r:embed="rId1"/>
          <a:stretch/>
        </p:blipFill>
        <p:spPr>
          <a:xfrm>
            <a:off x="1676520" y="1266840"/>
            <a:ext cx="4076640" cy="1720800"/>
          </a:xfrm>
          <a:prstGeom prst="rect">
            <a:avLst/>
          </a:prstGeom>
          <a:ln w="0">
            <a:noFill/>
          </a:ln>
        </p:spPr>
      </p:pic>
      <p:sp>
        <p:nvSpPr>
          <p:cNvPr id="153" name="矩形 3"/>
          <p:cNvSpPr/>
          <p:nvPr/>
        </p:nvSpPr>
        <p:spPr>
          <a:xfrm>
            <a:off x="285840" y="3071880"/>
            <a:ext cx="8429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同学分析上表后得出如下结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两班学生成绩平均水平相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班优秀的人数多于甲班优秀的人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分钟输入汉字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为优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班成绩的波动比乙班大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述结论正确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①②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①②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①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4361040" y="5500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ject 2" descr=""/>
          <p:cNvPicPr/>
          <p:nvPr/>
        </p:nvPicPr>
        <p:blipFill>
          <a:blip r:embed="rId1"/>
          <a:stretch/>
        </p:blipFill>
        <p:spPr>
          <a:xfrm>
            <a:off x="5357880" y="2428920"/>
            <a:ext cx="1647720" cy="7635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3" descr=""/>
          <p:cNvPicPr/>
          <p:nvPr/>
        </p:nvPicPr>
        <p:blipFill>
          <a:blip r:embed="rId2"/>
          <a:stretch/>
        </p:blipFill>
        <p:spPr>
          <a:xfrm>
            <a:off x="1928880" y="928800"/>
            <a:ext cx="1361880" cy="69840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357120" y="8571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∴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的中位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的中位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9,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班优秀的人数多于甲班优秀的人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∵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班成绩的波动比乙班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285840" y="85716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名学生军训时连续射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命中的环数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7,8,6,8,5,9,10,7,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这名学生射击环数的方差是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285840" y="2643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7,8,6,8,5,9,10,7,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平均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ject 2" descr=""/>
          <p:cNvPicPr/>
          <p:nvPr/>
        </p:nvPicPr>
        <p:blipFill>
          <a:blip r:embed="rId1"/>
          <a:stretch/>
        </p:blipFill>
        <p:spPr>
          <a:xfrm>
            <a:off x="1357200" y="3357720"/>
            <a:ext cx="4157640" cy="785520"/>
          </a:xfrm>
          <a:prstGeom prst="rect">
            <a:avLst/>
          </a:prstGeom>
          <a:ln w="0">
            <a:noFill/>
          </a:ln>
        </p:spPr>
      </p:pic>
      <p:sp>
        <p:nvSpPr>
          <p:cNvPr id="161" name="矩形 4"/>
          <p:cNvSpPr/>
          <p:nvPr/>
        </p:nvSpPr>
        <p:spPr>
          <a:xfrm>
            <a:off x="5647320" y="3429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ject 3" descr=""/>
          <p:cNvPicPr/>
          <p:nvPr/>
        </p:nvPicPr>
        <p:blipFill>
          <a:blip r:embed="rId2"/>
          <a:stretch/>
        </p:blipFill>
        <p:spPr>
          <a:xfrm>
            <a:off x="1357200" y="4429080"/>
            <a:ext cx="387360" cy="750960"/>
          </a:xfrm>
          <a:prstGeom prst="rect">
            <a:avLst/>
          </a:prstGeom>
          <a:ln w="0">
            <a:noFill/>
          </a:ln>
        </p:spPr>
      </p:pic>
      <p:sp>
        <p:nvSpPr>
          <p:cNvPr id="163" name="矩形 7"/>
          <p:cNvSpPr/>
          <p:nvPr/>
        </p:nvSpPr>
        <p:spPr>
          <a:xfrm>
            <a:off x="1714680" y="45720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/>
          <p:cNvSpPr/>
          <p:nvPr/>
        </p:nvSpPr>
        <p:spPr>
          <a:xfrm>
            <a:off x="3432240" y="178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928800" y="2142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次射击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二人各射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命中的环数如下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表格 2" descr=""/>
          <p:cNvPicPr/>
          <p:nvPr/>
        </p:nvPicPr>
        <p:blipFill>
          <a:blip r:embed="rId1"/>
          <a:stretch/>
        </p:blipFill>
        <p:spPr>
          <a:xfrm>
            <a:off x="1031760" y="1266840"/>
            <a:ext cx="4492800" cy="1095480"/>
          </a:xfrm>
          <a:prstGeom prst="rect">
            <a:avLst/>
          </a:prstGeom>
          <a:ln w="0">
            <a:noFill/>
          </a:ln>
        </p:spPr>
      </p:pic>
      <p:sp>
        <p:nvSpPr>
          <p:cNvPr id="167" name="矩形 3"/>
          <p:cNvSpPr/>
          <p:nvPr/>
        </p:nvSpPr>
        <p:spPr>
          <a:xfrm>
            <a:off x="1000080" y="23572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射击比较稳定的是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702000" y="3000240"/>
            <a:ext cx="21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题意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" descr=""/>
          <p:cNvPicPr/>
          <p:nvPr/>
        </p:nvPicPr>
        <p:blipFill>
          <a:blip r:embed="rId2"/>
          <a:stretch/>
        </p:blipFill>
        <p:spPr>
          <a:xfrm>
            <a:off x="3214800" y="3071880"/>
            <a:ext cx="387360" cy="48420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2" descr=""/>
          <p:cNvPicPr/>
          <p:nvPr/>
        </p:nvPicPr>
        <p:blipFill>
          <a:blip r:embed="rId3"/>
          <a:stretch/>
        </p:blipFill>
        <p:spPr>
          <a:xfrm>
            <a:off x="230040" y="4286160"/>
            <a:ext cx="1086120" cy="93528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3" descr=""/>
          <p:cNvPicPr/>
          <p:nvPr/>
        </p:nvPicPr>
        <p:blipFill>
          <a:blip r:embed="rId4"/>
          <a:stretch/>
        </p:blipFill>
        <p:spPr>
          <a:xfrm>
            <a:off x="227160" y="5214960"/>
            <a:ext cx="99684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5"/>
          <a:stretch/>
        </p:blipFill>
        <p:spPr>
          <a:xfrm>
            <a:off x="3143160" y="3643200"/>
            <a:ext cx="487440" cy="573120"/>
          </a:xfrm>
          <a:prstGeom prst="rect">
            <a:avLst/>
          </a:prstGeom>
          <a:ln w="0">
            <a:noFill/>
          </a:ln>
        </p:spPr>
      </p:pic>
      <p:sp>
        <p:nvSpPr>
          <p:cNvPr id="173" name="矩形 9"/>
          <p:cNvSpPr/>
          <p:nvPr/>
        </p:nvSpPr>
        <p:spPr>
          <a:xfrm>
            <a:off x="3755160" y="3000240"/>
            <a:ext cx="37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÷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3755160" y="3643200"/>
            <a:ext cx="37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÷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1357200" y="442908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285920" y="53578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ject 8" descr=""/>
          <p:cNvPicPr/>
          <p:nvPr/>
        </p:nvPicPr>
        <p:blipFill>
          <a:blip r:embed="rId6"/>
          <a:stretch/>
        </p:blipFill>
        <p:spPr>
          <a:xfrm>
            <a:off x="604800" y="6143760"/>
            <a:ext cx="1157400" cy="5000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8"/>
          <p:cNvSpPr/>
          <p:nvPr/>
        </p:nvSpPr>
        <p:spPr>
          <a:xfrm>
            <a:off x="220680" y="60721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1857240" y="614376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射击成绩比较稳定的是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故填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5790240" y="228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214200" y="9288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知两组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计算这两组数据的方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说明数据波动的大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ject 2" descr=""/>
          <p:cNvPicPr/>
          <p:nvPr/>
        </p:nvPicPr>
        <p:blipFill>
          <a:blip r:embed="rId1"/>
          <a:stretch/>
        </p:blipFill>
        <p:spPr>
          <a:xfrm>
            <a:off x="82440" y="3714840"/>
            <a:ext cx="1293840" cy="78588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" descr=""/>
          <p:cNvPicPr/>
          <p:nvPr/>
        </p:nvPicPr>
        <p:blipFill>
          <a:blip r:embed="rId2"/>
          <a:stretch/>
        </p:blipFill>
        <p:spPr>
          <a:xfrm>
            <a:off x="285840" y="4929120"/>
            <a:ext cx="799920" cy="689040"/>
          </a:xfrm>
          <a:prstGeom prst="rect">
            <a:avLst/>
          </a:prstGeom>
          <a:ln w="0">
            <a:noFill/>
          </a:ln>
        </p:spPr>
      </p:pic>
      <p:sp>
        <p:nvSpPr>
          <p:cNvPr id="184" name="矩形 4"/>
          <p:cNvSpPr/>
          <p:nvPr/>
        </p:nvSpPr>
        <p:spPr>
          <a:xfrm>
            <a:off x="1071720" y="39290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(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1000080" y="5072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(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2" descr=""/>
          <p:cNvPicPr/>
          <p:nvPr/>
        </p:nvPicPr>
        <p:blipFill>
          <a:blip r:embed="rId1"/>
          <a:stretch/>
        </p:blipFill>
        <p:spPr>
          <a:xfrm>
            <a:off x="441360" y="3500280"/>
            <a:ext cx="1014480" cy="80676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3" descr=""/>
          <p:cNvPicPr/>
          <p:nvPr/>
        </p:nvPicPr>
        <p:blipFill>
          <a:blip r:embed="rId2"/>
          <a:stretch/>
        </p:blipFill>
        <p:spPr>
          <a:xfrm>
            <a:off x="441360" y="714240"/>
            <a:ext cx="1055520" cy="839880"/>
          </a:xfrm>
          <a:prstGeom prst="rect">
            <a:avLst/>
          </a:prstGeom>
          <a:ln w="0">
            <a:noFill/>
          </a:ln>
        </p:spPr>
      </p:pic>
      <p:sp>
        <p:nvSpPr>
          <p:cNvPr id="188" name="矩形 3"/>
          <p:cNvSpPr/>
          <p:nvPr/>
        </p:nvSpPr>
        <p:spPr>
          <a:xfrm>
            <a:off x="1500120" y="10000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[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4" descr=""/>
          <p:cNvPicPr/>
          <p:nvPr/>
        </p:nvPicPr>
        <p:blipFill>
          <a:blip r:embed="rId3"/>
          <a:stretch/>
        </p:blipFill>
        <p:spPr>
          <a:xfrm>
            <a:off x="1214280" y="1643040"/>
            <a:ext cx="311400" cy="876240"/>
          </a:xfrm>
          <a:prstGeom prst="rect">
            <a:avLst/>
          </a:prstGeom>
          <a:ln w="0">
            <a:noFill/>
          </a:ln>
        </p:spPr>
      </p:pic>
      <p:sp>
        <p:nvSpPr>
          <p:cNvPr id="190" name="矩形 6"/>
          <p:cNvSpPr/>
          <p:nvPr/>
        </p:nvSpPr>
        <p:spPr>
          <a:xfrm>
            <a:off x="1605960" y="1785960"/>
            <a:ext cx="41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(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57160" y="1788480"/>
            <a:ext cx="42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NEU-BZ-S9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464000" y="543240"/>
            <a:ext cx="215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57160" y="2645640"/>
            <a:ext cx="42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NEU-BZ-S9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464000" y="543240"/>
            <a:ext cx="215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11" descr=""/>
          <p:cNvPicPr/>
          <p:nvPr/>
        </p:nvPicPr>
        <p:blipFill>
          <a:blip r:embed="rId4"/>
          <a:stretch/>
        </p:blipFill>
        <p:spPr>
          <a:xfrm>
            <a:off x="1214280" y="2500200"/>
            <a:ext cx="311400" cy="876240"/>
          </a:xfrm>
          <a:prstGeom prst="rect">
            <a:avLst/>
          </a:prstGeom>
          <a:ln w="0">
            <a:noFill/>
          </a:ln>
        </p:spPr>
      </p:pic>
      <p:sp>
        <p:nvSpPr>
          <p:cNvPr id="196" name="矩形 15"/>
          <p:cNvSpPr/>
          <p:nvPr/>
        </p:nvSpPr>
        <p:spPr>
          <a:xfrm>
            <a:off x="1527120" y="26431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5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1500120" y="364320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[(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785880" y="443160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NEU-BZ-S9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11" descr=""/>
          <p:cNvPicPr/>
          <p:nvPr/>
        </p:nvPicPr>
        <p:blipFill>
          <a:blip r:embed="rId5"/>
          <a:stretch/>
        </p:blipFill>
        <p:spPr>
          <a:xfrm>
            <a:off x="1143000" y="4357800"/>
            <a:ext cx="311040" cy="8762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9"/>
          <p:cNvSpPr/>
          <p:nvPr/>
        </p:nvSpPr>
        <p:spPr>
          <a:xfrm>
            <a:off x="1388520" y="4500720"/>
            <a:ext cx="36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(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785880" y="528876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NEU-BZ-S9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11" descr=""/>
          <p:cNvPicPr/>
          <p:nvPr/>
        </p:nvPicPr>
        <p:blipFill>
          <a:blip r:embed="rId6"/>
          <a:stretch/>
        </p:blipFill>
        <p:spPr>
          <a:xfrm>
            <a:off x="1143000" y="5214960"/>
            <a:ext cx="260280" cy="733320"/>
          </a:xfrm>
          <a:prstGeom prst="rect">
            <a:avLst/>
          </a:prstGeom>
          <a:ln w="0">
            <a:noFill/>
          </a:ln>
        </p:spPr>
      </p:pic>
      <p:sp>
        <p:nvSpPr>
          <p:cNvPr id="203" name="矩形 22"/>
          <p:cNvSpPr/>
          <p:nvPr/>
        </p:nvSpPr>
        <p:spPr>
          <a:xfrm>
            <a:off x="1455480" y="52862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14" descr=""/>
          <p:cNvPicPr/>
          <p:nvPr/>
        </p:nvPicPr>
        <p:blipFill>
          <a:blip r:embed="rId7"/>
          <a:stretch/>
        </p:blipFill>
        <p:spPr>
          <a:xfrm>
            <a:off x="1071720" y="6072120"/>
            <a:ext cx="1000080" cy="463680"/>
          </a:xfrm>
          <a:prstGeom prst="rect">
            <a:avLst/>
          </a:prstGeom>
          <a:ln w="0">
            <a:noFill/>
          </a:ln>
        </p:spPr>
      </p:pic>
      <p:sp>
        <p:nvSpPr>
          <p:cNvPr id="205" name="矩形 24"/>
          <p:cNvSpPr/>
          <p:nvPr/>
        </p:nvSpPr>
        <p:spPr>
          <a:xfrm>
            <a:off x="142920" y="60721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乙组数据比甲组数据波动大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动作按钮: 第一张 25">
            <a:hlinkClick r:id="" action="ppaction://hlinkshowjump?jump=firstslide"/>
          </p:cNvPr>
          <p:cNvSpPr/>
          <p:nvPr/>
        </p:nvSpPr>
        <p:spPr>
          <a:xfrm>
            <a:off x="7429680" y="6143760"/>
            <a:ext cx="357120" cy="504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504720"/>
              <a:gd name="textAreaBottom" fmla="*/ 481680 h 504720"/>
            </a:gdLst>
            <a:ahLst/>
            <a:rect l="textAreaLeft" t="textAreaTop" r="textAreaRight" b="textAreaBottom"/>
            <a:pathLst>
              <a:path w="21600" h="30518">
                <a:moveTo>
                  <a:pt x="0" y="0"/>
                </a:moveTo>
                <a:lnTo>
                  <a:pt x="21600" y="0"/>
                </a:lnTo>
                <a:lnTo>
                  <a:pt x="21600" y="30518"/>
                </a:lnTo>
                <a:lnTo>
                  <a:pt x="0" y="30518"/>
                </a:lnTo>
                <a:close/>
              </a:path>
              <a:path fill="lightenLess" w="21600" h="305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518">
                <a:moveTo>
                  <a:pt x="21600" y="0"/>
                </a:moveTo>
                <a:lnTo>
                  <a:pt x="21600" y="30518"/>
                </a:lnTo>
                <a:lnTo>
                  <a:pt x="20200" y="29118"/>
                </a:lnTo>
                <a:lnTo>
                  <a:pt x="20200" y="1400"/>
                </a:lnTo>
                <a:close/>
              </a:path>
              <a:path fill="darkenLess" w="21600" h="30518">
                <a:moveTo>
                  <a:pt x="21600" y="30518"/>
                </a:moveTo>
                <a:lnTo>
                  <a:pt x="0" y="30518"/>
                </a:lnTo>
                <a:lnTo>
                  <a:pt x="1400" y="29118"/>
                </a:lnTo>
                <a:lnTo>
                  <a:pt x="20200" y="29118"/>
                </a:lnTo>
                <a:close/>
              </a:path>
              <a:path fill="lighten" w="21600" h="30518">
                <a:moveTo>
                  <a:pt x="0" y="305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9118"/>
                </a:lnTo>
                <a:close/>
              </a:path>
              <a:path fill="darken" w="21600" h="30518">
                <a:moveTo>
                  <a:pt x="10800" y="8296"/>
                </a:moveTo>
                <a:lnTo>
                  <a:pt x="13376" y="10907"/>
                </a:lnTo>
                <a:lnTo>
                  <a:pt x="13376" y="9167"/>
                </a:lnTo>
                <a:lnTo>
                  <a:pt x="15152" y="9167"/>
                </a:lnTo>
                <a:lnTo>
                  <a:pt x="15152" y="12683"/>
                </a:lnTo>
                <a:lnTo>
                  <a:pt x="17763" y="15259"/>
                </a:lnTo>
                <a:lnTo>
                  <a:pt x="16109" y="15259"/>
                </a:lnTo>
                <a:lnTo>
                  <a:pt x="16109" y="22448"/>
                </a:lnTo>
                <a:lnTo>
                  <a:pt x="5491" y="22448"/>
                </a:lnTo>
                <a:lnTo>
                  <a:pt x="5491" y="15259"/>
                </a:lnTo>
                <a:lnTo>
                  <a:pt x="3837" y="15259"/>
                </a:lnTo>
                <a:close/>
              </a:path>
              <a:path fill="darkenLess" w="21600" h="30518">
                <a:moveTo>
                  <a:pt x="13376" y="10907"/>
                </a:moveTo>
                <a:lnTo>
                  <a:pt x="13376" y="9167"/>
                </a:lnTo>
                <a:lnTo>
                  <a:pt x="15152" y="9167"/>
                </a:lnTo>
                <a:lnTo>
                  <a:pt x="15152" y="12683"/>
                </a:lnTo>
                <a:close/>
              </a:path>
              <a:path fill="darkenLess" w="21600" h="30518">
                <a:moveTo>
                  <a:pt x="9877" y="18758"/>
                </a:moveTo>
                <a:lnTo>
                  <a:pt x="11723" y="18758"/>
                </a:lnTo>
                <a:lnTo>
                  <a:pt x="11723" y="22448"/>
                </a:lnTo>
                <a:lnTo>
                  <a:pt x="16109" y="22448"/>
                </a:lnTo>
                <a:lnTo>
                  <a:pt x="16109" y="15259"/>
                </a:lnTo>
                <a:lnTo>
                  <a:pt x="5491" y="15259"/>
                </a:lnTo>
                <a:lnTo>
                  <a:pt x="5491" y="22448"/>
                </a:lnTo>
                <a:lnTo>
                  <a:pt x="9877" y="224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6551640" y="0"/>
            <a:ext cx="2592360" cy="1008000"/>
            <a:chOff x="6551640" y="0"/>
            <a:chExt cx="2592360" cy="1008000"/>
          </a:xfrm>
        </p:grpSpPr>
        <p:pic>
          <p:nvPicPr>
            <p:cNvPr id="87" name="Picture 5" descr="1"/>
            <p:cNvPicPr/>
            <p:nvPr/>
          </p:nvPicPr>
          <p:blipFill>
            <a:blip r:embed="rId1"/>
            <a:stretch/>
          </p:blipFill>
          <p:spPr>
            <a:xfrm>
              <a:off x="6551640" y="0"/>
              <a:ext cx="25923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2"/>
            <p:cNvSpPr/>
            <p:nvPr/>
          </p:nvSpPr>
          <p:spPr>
            <a:xfrm>
              <a:off x="6622920" y="0"/>
              <a:ext cx="2376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学 习 新 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6"/>
          <p:cNvSpPr/>
          <p:nvPr/>
        </p:nvSpPr>
        <p:spPr>
          <a:xfrm>
            <a:off x="250920" y="537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何计算一组数据的平均数、中位数和众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1234800" y="105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知识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179280" y="1989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表示一组数据的“集中趋势”的统计量有哪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179280" y="3860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是平均数、中位数和众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"/>
          <p:cNvSpPr/>
          <p:nvPr/>
        </p:nvSpPr>
        <p:spPr>
          <a:xfrm>
            <a:off x="1317600" y="18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50920" y="692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两名业余射击选手参加了一次射击比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人各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子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绩如图所示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3384360" cy="23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498920" y="1771560"/>
            <a:ext cx="3328920" cy="235260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539640" y="4292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上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射击成绩的平均数、中位数各是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611280" y="551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两人射击成绩的平均数和中位数都是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环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68360" y="4941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甲射击成绩波动较大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波动的大小反映射击的稳定性有差异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250920" y="765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、乙射击成绩的平均数是否相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相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的射击水平就一样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755640" y="19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两人射击成绩的平均数相同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但并不能说明射击水平一定相同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395280" y="342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一组数据相对于其平均数波动较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波动大小反映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928800" y="3571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描述每个数据与平均数的偏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4429440" cy="769680"/>
          </a:xfrm>
          <a:prstGeom prst="rect">
            <a:avLst/>
          </a:prstGeom>
          <a:ln w="0">
            <a:noFill/>
          </a:ln>
        </p:spPr>
      </p:pic>
      <p:sp>
        <p:nvSpPr>
          <p:cNvPr id="105" name="矩形 3"/>
          <p:cNvSpPr/>
          <p:nvPr/>
        </p:nvSpPr>
        <p:spPr>
          <a:xfrm>
            <a:off x="571680" y="471492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防止正负偏差相互抵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428760" y="228600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所有的偏差直接相加能表示所有数据的总偏差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071720" y="350028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正负偏差会相互抵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偏差总和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2095200" y="5715000"/>
            <a:ext cx="30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各偏差平方后再求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928800" y="2858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消除数据个数的影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785880" y="107172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各偏差平方后再求平均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7240" cy="15228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500040" y="1857240"/>
            <a:ext cx="82868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数据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平均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个数据与平均数偏差的平方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ject 7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579240" cy="7380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8" descr=""/>
          <p:cNvPicPr/>
          <p:nvPr/>
        </p:nvPicPr>
        <p:blipFill>
          <a:blip r:embed="rId3"/>
          <a:stretch/>
        </p:blipFill>
        <p:spPr>
          <a:xfrm>
            <a:off x="1015920" y="3049560"/>
            <a:ext cx="6324840" cy="884160"/>
          </a:xfrm>
          <a:prstGeom prst="rect">
            <a:avLst/>
          </a:prstGeom>
          <a:ln w="0">
            <a:noFill/>
          </a:ln>
        </p:spPr>
      </p:pic>
      <p:sp>
        <p:nvSpPr>
          <p:cNvPr id="115" name="矩形 12"/>
          <p:cNvSpPr/>
          <p:nvPr/>
        </p:nvSpPr>
        <p:spPr>
          <a:xfrm>
            <a:off x="571680" y="400068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偏差平方的平均数叫做这组数据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方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9" descr=""/>
          <p:cNvPicPr/>
          <p:nvPr/>
        </p:nvPicPr>
        <p:blipFill>
          <a:blip r:embed="rId4"/>
          <a:stretch/>
        </p:blipFill>
        <p:spPr>
          <a:xfrm>
            <a:off x="2030400" y="4572000"/>
            <a:ext cx="5172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1096920" y="21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642960" y="414324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组数据有什么特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642960" y="7858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的取值范围是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714240" y="19288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求一组数据的方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714240" y="3071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用方差的大小衡量离散程度的大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285840" y="8571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通过求方差的方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上述问题中哪个射击选手的成绩比较稳定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968400" cy="75060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1214280" y="2071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1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357120" y="3929040"/>
            <a:ext cx="71460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1000080" y="378612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(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7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8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453960" y="5357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5" descr=""/>
          <p:cNvPicPr/>
          <p:nvPr/>
        </p:nvPicPr>
        <p:blipFill>
          <a:blip r:embed="rId3"/>
          <a:stretch/>
        </p:blipFill>
        <p:spPr>
          <a:xfrm>
            <a:off x="1214280" y="5357880"/>
            <a:ext cx="1233720" cy="571320"/>
          </a:xfrm>
          <a:prstGeom prst="rect">
            <a:avLst/>
          </a:prstGeom>
          <a:ln w="0">
            <a:noFill/>
          </a:ln>
        </p:spPr>
      </p:pic>
      <p:sp>
        <p:nvSpPr>
          <p:cNvPr id="129" name="矩形 9"/>
          <p:cNvSpPr/>
          <p:nvPr/>
        </p:nvSpPr>
        <p:spPr>
          <a:xfrm>
            <a:off x="2357280" y="542916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乙的射击成绩比甲的波动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乙的成绩更稳定些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857160" y="1643040"/>
            <a:ext cx="7929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的值为非负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方差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组数据为相同的一组数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数据分布比较分散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较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数据分布比较集中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较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差的大小反映了数据波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离散程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大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1026720" y="642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7:20:00Z</dcterms:created>
  <dc:creator>Administrator</dc:creator>
  <dc:description/>
  <dc:language>en-US</dc:language>
  <cp:lastModifiedBy>Administrator</cp:lastModifiedBy>
  <dcterms:modified xsi:type="dcterms:W3CDTF">2016-10-18T12:30:18Z</dcterms:modified>
  <cp:revision>114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